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8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7E4F22-28DE-4978-8EE9-342622FC0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iew with Dell’s Azadeh En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inc.blogs.nytim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C3A1-7DE6-4A2D-8557-9A7FE0B25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07D3-5297-434F-859D-C30E9ACA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856A-4341-4899-8E96-DBB766DA8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63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57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569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63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57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FB96-9D17-43FA-A3D2-78C5F8939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F2CCC-061C-4CFE-AC74-67E3BF58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8C3D5-1178-4116-AD2D-3A9CADD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20B6D-03E9-4938-9634-81A4A158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1016-87BF-4371-8E69-CCD0DD5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4741-BA49-44A2-8435-13554AE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4680" y="7560"/>
            <a:ext cx="76294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500F6-CBD9-4B4A-AE1F-E5C7151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7EBCA-22C8-4148-980E-C7698C9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450B-CB43-4C30-8777-FAA77599B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13591-67BB-419D-81FD-2F8B509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E774B-798F-4B61-9CAA-7540FB4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F6AD-88C4-49FC-BEBE-9F0A5FD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FA6C0-7CCA-4CCB-9781-216FA131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363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57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69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363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57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388BB-426E-483B-B241-6993ED6E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82FE-2EE0-4A3F-B7A6-325FE573F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FAD8-3295-4459-B61A-321D24FF5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817A-17F9-4DF1-894E-9BFEFC8F1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4680" y="7560"/>
            <a:ext cx="76294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192B-2497-4DE2-B725-86534E4F8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424B-E91E-4276-9C3F-3DDD501BB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FFFC-2077-474F-8C3A-8D868AB5E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2D8E-994C-4E77-B9AF-74661D033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4120" y="6381360"/>
            <a:ext cx="723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1E36-A83F-44C0-81E5-C44A5B8C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3040" y="-9360"/>
            <a:ext cx="8399520" cy="981000"/>
          </a:xfrm>
          <a:prstGeom prst="rect">
            <a:avLst/>
          </a:prstGeom>
          <a:solidFill>
            <a:srgbClr val="cc3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2"/>
          <p:cNvSpPr/>
          <p:nvPr/>
        </p:nvSpPr>
        <p:spPr>
          <a:xfrm rot="16200000">
            <a:off x="-549360" y="8445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ustainab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4"/>
          <p:cNvSpPr/>
          <p:nvPr/>
        </p:nvSpPr>
        <p:spPr>
          <a:xfrm flipH="1">
            <a:off x="743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2" descr=""/>
          <p:cNvPicPr/>
          <p:nvPr/>
        </p:nvPicPr>
        <p:blipFill>
          <a:blip r:embed="rId2"/>
          <a:stretch/>
        </p:blipFill>
        <p:spPr>
          <a:xfrm>
            <a:off x="5033880" y="2127240"/>
            <a:ext cx="825480" cy="1235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"/>
          <p:cNvPicPr/>
          <p:nvPr/>
        </p:nvPicPr>
        <p:blipFill>
          <a:blip r:embed="rId3"/>
          <a:stretch/>
        </p:blipFill>
        <p:spPr>
          <a:xfrm>
            <a:off x="3741840" y="2127240"/>
            <a:ext cx="1292040" cy="1235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5859360" y="0"/>
            <a:ext cx="3284640" cy="3362400"/>
          </a:xfrm>
          <a:prstGeom prst="rect">
            <a:avLst/>
          </a:prstGeom>
          <a:solidFill>
            <a:srgbClr val="b0a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9"/>
          <p:cNvSpPr/>
          <p:nvPr/>
        </p:nvSpPr>
        <p:spPr>
          <a:xfrm>
            <a:off x="5962680" y="26719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 Energy in the Office with I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7" descr=""/>
          <p:cNvPicPr/>
          <p:nvPr/>
        </p:nvPicPr>
        <p:blipFill>
          <a:blip r:embed="rId4"/>
          <a:stretch/>
        </p:blipFill>
        <p:spPr>
          <a:xfrm>
            <a:off x="3741840" y="0"/>
            <a:ext cx="2117520" cy="212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ustIT_banner"/>
          <p:cNvPicPr/>
          <p:nvPr/>
        </p:nvPicPr>
        <p:blipFill>
          <a:blip r:embed="rId5"/>
          <a:stretch/>
        </p:blipFill>
        <p:spPr>
          <a:xfrm>
            <a:off x="19080" y="5425920"/>
            <a:ext cx="9144000" cy="1470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FD2-AB0A-4DCF-9B73-E3562AC8FF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2B9D-68D5-48DB-8BFE-CA475767F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30B8-A7A6-4309-A625-934D4B21D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4" descr=""/>
          <p:cNvPicPr/>
          <p:nvPr/>
        </p:nvPicPr>
        <p:blipFill>
          <a:blip r:embed="rId1"/>
          <a:stretch/>
        </p:blipFill>
        <p:spPr>
          <a:xfrm>
            <a:off x="5859360" y="4680"/>
            <a:ext cx="328464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"/>
          <p:cNvPicPr/>
          <p:nvPr/>
        </p:nvPicPr>
        <p:blipFill>
          <a:blip r:embed="rId2"/>
          <a:stretch/>
        </p:blipFill>
        <p:spPr>
          <a:xfrm>
            <a:off x="5033880" y="2127240"/>
            <a:ext cx="825480" cy="1235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3" descr=""/>
          <p:cNvPicPr/>
          <p:nvPr/>
        </p:nvPicPr>
        <p:blipFill>
          <a:blip r:embed="rId3"/>
          <a:stretch/>
        </p:blipFill>
        <p:spPr>
          <a:xfrm>
            <a:off x="3741840" y="2127240"/>
            <a:ext cx="1292040" cy="1235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8"/>
          <p:cNvSpPr/>
          <p:nvPr/>
        </p:nvSpPr>
        <p:spPr>
          <a:xfrm>
            <a:off x="5859360" y="0"/>
            <a:ext cx="3284640" cy="3362400"/>
          </a:xfrm>
          <a:prstGeom prst="rect">
            <a:avLst/>
          </a:prstGeom>
          <a:solidFill>
            <a:srgbClr val="b0a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9"/>
          <p:cNvSpPr/>
          <p:nvPr/>
        </p:nvSpPr>
        <p:spPr>
          <a:xfrm>
            <a:off x="5962680" y="26719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 Energy in your Office with I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7" descr=""/>
          <p:cNvPicPr/>
          <p:nvPr/>
        </p:nvPicPr>
        <p:blipFill>
          <a:blip r:embed="rId4"/>
          <a:stretch/>
        </p:blipFill>
        <p:spPr>
          <a:xfrm>
            <a:off x="3741840" y="0"/>
            <a:ext cx="2117520" cy="2127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7"/>
          <p:cNvSpPr/>
          <p:nvPr/>
        </p:nvSpPr>
        <p:spPr>
          <a:xfrm>
            <a:off x="3797280" y="3822840"/>
            <a:ext cx="49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able I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ility and Energy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4" descr="sustIT_banner"/>
          <p:cNvPicPr/>
          <p:nvPr/>
        </p:nvPicPr>
        <p:blipFill>
          <a:blip r:embed="rId5"/>
          <a:stretch/>
        </p:blipFill>
        <p:spPr>
          <a:xfrm>
            <a:off x="0" y="5423040"/>
            <a:ext cx="91630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5413-6CE4-4C35-A08E-F39F37F6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PTIMIZE PERFORM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’s running slow, it’s wasting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o your own computer cleanup: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Windows: Start/All Programs/Accessories/System Too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k Cleanup  -- Free up disk spac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k Defragmenter – consolidates fragmented file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databases of unnecessary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e more data they contain, the more hardware is used in storing th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026-D6AD-4199-A01C-794FC595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MON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56960" y="1200240"/>
            <a:ext cx="762948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 out the CRTs and get rid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nvert to flat panel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RT uses 2-3x more energy the flat pane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RT has lead &amp;  mercury – so dispose of properl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D flat-panel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ight Emitting Diode (LED) monitors are mercury free and recyclabl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CD, while better then CRT’s, contains mercury (CFL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the Monitor using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isable your screen sa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the ‘Off’ button when you walk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s zero energ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9" name="Picture 4" descr="MCj04241940000[1]"/>
          <p:cNvPicPr/>
          <p:nvPr/>
        </p:nvPicPr>
        <p:blipFill>
          <a:blip r:embed="rId1"/>
          <a:stretch/>
        </p:blipFill>
        <p:spPr>
          <a:xfrm>
            <a:off x="7213680" y="4664160"/>
            <a:ext cx="1473120" cy="195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MCj04134820000[1]"/>
          <p:cNvPicPr/>
          <p:nvPr/>
        </p:nvPicPr>
        <p:blipFill>
          <a:blip r:embed="rId2"/>
          <a:stretch/>
        </p:blipFill>
        <p:spPr>
          <a:xfrm>
            <a:off x="7015320" y="247680"/>
            <a:ext cx="1960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190F-88F9-46D7-8595-842CA456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PRI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56960" y="971280"/>
            <a:ext cx="76294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vious Stuf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t your print drivers to default to double-sided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Do the same for your copiers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rint in DRAFT mode to save ton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rint to PDF and store electronicall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Lots of free PDF making software is available!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e Print Preview to avoid printing erro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nly print ‘page 1’ of emails ... Avoid the chai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queeze the margin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Margins reduced from 1.25 to .75 in, nearly 5% paper savings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e 100% Recycled Pap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e and select pages before printing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verage employee prints 6 wasted pages per day!!!!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printer/copier sustainability with network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ost vendors have a multi-vendor tool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Xerox’s Sustainability Calculator, HP Webjet Admin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2AC-D7CE-46E1-90E2-67D6E2B7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POWER SUP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wer supplies are not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lder and many after-market ones are &lt;80% efficien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pgrade your power supp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80 Plus Certificatio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0% effici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ternational Energy Efficiency stamp “IV”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5% efficienc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ergy Star “V”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7% efficienc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lways check power supply efficiency when buying any electronic equipmen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647720" y="5062680"/>
            <a:ext cx="2327400" cy="168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54" t="17521" r="85043" b="66631"/>
          <a:stretch/>
        </p:blipFill>
        <p:spPr>
          <a:xfrm>
            <a:off x="6845400" y="1981080"/>
            <a:ext cx="1244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D357-3765-4237-A08F-59614DC1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KEEPING IT DIG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an and email docs rather then fax th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Get a Fax Ser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ceive and send faxes via email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B15-56C7-4A0C-A63F-DE133B49E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VAMPIRE PERIPHER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your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p to 75% of total energy usage from when they’re off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peakers, printer, monito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nything that has an AC Adapto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lug them into a Power Strip and turn off when don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 a Smart Strip Power Strip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13414" r="0" b="39524"/>
          <a:stretch/>
        </p:blipFill>
        <p:spPr>
          <a:xfrm>
            <a:off x="1057320" y="3468600"/>
            <a:ext cx="6234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9A98-57EF-4EA6-B1EA-86882350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Start Measuring Th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Kill a Watt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est out your peripheral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peakers are a surprising sleep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easure ‘Vampire’ energy drain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7663" r="0" b="44701"/>
          <a:stretch/>
        </p:blipFill>
        <p:spPr>
          <a:xfrm>
            <a:off x="905040" y="2828880"/>
            <a:ext cx="6905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202-538A-46A6-A84A-CED66137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AUDIT, ACT &amp; MEASURE AG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existing PC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un tests with the Kill a Watt met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aseline current energy consumptio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ke Chang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able power management in your departm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place power strips with Smart Strip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able screen save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place CRT’s with LED Flat pane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urchase EPEAT equipm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t printers and copiers to double-sided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rack printer and copier usage with sustainability softwar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&amp;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1. Sustainable Computing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…making IT easy to be gr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many metric tons of CO2 do 20 desktops left on for a year emit into the atm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1.Less than 1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2. 6.8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90000"/>
                </a:solidFill>
                <a:latin typeface="Arial"/>
              </a:rPr>
              <a:t>3. 68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4. 69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out how many trees would it take to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fset those emission?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1. 3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2. 3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3. 30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4. More than 50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9AC4-2AAC-4BB9-9764-0589E0EEB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2. What Is Sustainable Comput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0468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Sustainable Computing is a principle that embraces a rang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olicies, procedures, programs, and attitudes that run the length and breadth of any use of information technologies.  It is a holistic approach that stretches from power to waste to purchasing to education and is a life-cycle management approach to the deployment of IT across an organizatio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concept of Sustainable Computing considers total cost of ownership, the total environmental impact, and the total benefit of technolo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6CF-B2B3-41FF-B105-87FA2C04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6F9-3193-421C-9B6F-B6817F98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92480" y="189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PICTURE: IT &amp; CO2 E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6960" y="1200240"/>
            <a:ext cx="808668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dustry Energ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atacenters use 3% of the total energy used in the office computing is another 1%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DOE/LBNL/Energy Star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T Industry’s CO2 footprint is equivalent to that of the Aviation Industry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Gartner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missions growth from IT is the fastest of any sector, especially in data-intensive discipline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ffice equipment accounts for 26% of the energy used in office buildings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State of CA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Lighting = 22%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Chilled Water Subsystem = 28%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ergy prices expected to rise 6% per year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DOE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verage PC wastes ½ the energy delivered to it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50 million tons of e-waste produced yearly worldwid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s many as 60% don’t turn computer off at nigh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, with 5% world population, uses 30% of world’s paper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ypical office disposes 350 tones waste paper/employee/year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3. Areas of Focus (Goa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ower = Energy Conserv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Waste = Have a recycling program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urchasing = will purchase only Energy Star or EPEAT registered products - including peripherals as they become avail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Thin Client Pilot = In addition to the business benefits, this system can reduce the overall environmental footprint of a desktop by as much as 75% (Source:  Sun Microsystems: Sustainable Comput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Education = having Poster campaign, periodic em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reminders, web site, Sustainable Computing Gu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9F4-76A4-4A63-8C99-E43E77C9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ttle things you can do to make a big differenc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the biggest thing is turning off all equipment when you leave for the day – computers, monitors, copiers, printers, fax machin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rint  in Economode when you can – this saves toner by printing lighter o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rint duplex – this save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Buy refurbished ink cartridges and toner whe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6DE-C9EF-42C1-B1F6-E7AACABA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C67F-7E4B-415C-9F50-D368CBF7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AT ABC PTY LTD  / or SCHOOL ABC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staff an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0 desktop/laptop comput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 serv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of energy use from IT infrastru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uters growing 5%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keep energy usage flat, or reduce, while increasing productive output of I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501920" y="476568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 what can you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4541-36DC-40D1-8672-145280248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BUY WITH SUSTAINABILITY IN M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only w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igh-end graphics cards can use as much energy as CPU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r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stablishes efficiency requirements to ensure energy savings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Product Environmental Assessment Tool (EPEAT) – www.epea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archable database of computer hardware and set of holistic environmental guidelin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PA + Hardware venders (Dell, HP, Apple, IBM, etc)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0% of computers shipped in 2007 were EPEAT registered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p from 10% in 2006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alculate environment benefits and cost savings (VERY IMPORTANT!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0DC-BEA8-4D95-B514-EAF36B61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3160" y="4933800"/>
            <a:ext cx="159084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17853"/>
          <a:stretch/>
        </p:blipFill>
        <p:spPr>
          <a:xfrm>
            <a:off x="1311120" y="133200"/>
            <a:ext cx="71312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E17-B8E3-4E87-A3F2-E8200239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553160" y="4933800"/>
            <a:ext cx="159084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0" t="0" r="0" b="14359"/>
          <a:stretch/>
        </p:blipFill>
        <p:spPr>
          <a:xfrm>
            <a:off x="1038240" y="152280"/>
            <a:ext cx="67816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F62-390F-4F67-A7A6-9717CE3B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WER MANAGEMENT … A FEW MY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off your computer harm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Cs are built to withstand 40,000 power cycl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Historically, could damage hard disks. Not anymore!!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more energy to boot a computer than it does to keep it awake over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e small surge of power to turn it on is much smaller then energy used to keep it o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avers sav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more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nergy – 42-114 watt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riginally designed to prevent burn-in, not save energ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etter to turn the monitor off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’s off uses 0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lugged in it draws ~2-3 watts for network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nnectivity, etc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1CEF-CE2A-4B54-94A1-6EC43349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 – COMPARING THE O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133640" y="1454040"/>
            <a:ext cx="76294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89E7-3E6F-4945-B76C-4C147E77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92480" y="189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2"/>
          <p:cNvSpPr/>
          <p:nvPr/>
        </p:nvSpPr>
        <p:spPr>
          <a:xfrm rot="16200000">
            <a:off x="-549360" y="8445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ustainab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 flipH="1">
            <a:off x="743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 IS AN EASY W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 Management comes with you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PC: Start/Control Panel/Power Option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Mac: Apple Menu/System Preferences/Energy Sa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 10% of PC’s have Power Management enabl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Power management can save between $25-$75 in energy costs annually, per comput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Reduces energy used by approx 1/3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2:12:24Z</dcterms:created>
  <dc:creator>Stanford University</dc:creator>
  <dc:description/>
  <dc:language>en-US</dc:language>
  <cp:lastModifiedBy>Raunak</cp:lastModifiedBy>
  <dcterms:modified xsi:type="dcterms:W3CDTF">2012-10-04T08:05:40Z</dcterms:modified>
  <cp:revision>49</cp:revision>
  <dc:subject/>
  <dc:title>Slide 1</dc:title>
</cp:coreProperties>
</file>